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B62-3DD8-43A2-AC08-75F244F1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4ED-176F-4C08-99C2-5CC959A0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42C-6FAB-4FF0-A556-045E802B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1CA-54CE-401A-A382-54C04BD0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2F79-F1F1-4130-B19D-BDE20EB7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3545-508A-4103-AF2B-E2D3BC69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B1F1-635A-4959-B09A-4E8EB6BE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B71F-3FFA-45BF-B949-635624F8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2812-1337-485C-8061-7C59D648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D3E9-0E77-469A-9F20-E404D9D6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8E93-1D4F-4498-ADF7-7A2BB0DC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6CD-9927-4AFB-BF37-EC4D675E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5F1E-D9D9-4EE1-96F8-6A82C5DA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AF20-04ED-431F-8AE2-E4D2211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DCDF-7880-4C69-8862-594CB2C5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4E80-60AB-40B7-846B-B3BE7E6C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FEBB-9176-4DD0-897A-049677C6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48A-9245-4DAA-B8A0-799FD118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F2E-2F2A-4EFF-B04F-0E079B98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BCC-3800-469B-A762-DEBE1D30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094-EFD8-45C5-9325-B3F4436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1AB-BA86-4A89-A3BA-851D08C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FFF-DC8A-4F48-8F75-6EA3EF7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8D8-F4E2-4BD4-8706-A3AB3A30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F794-151C-4AD2-977D-30C1DFF35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5042-D8AA-4699-B385-493031500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057400" y="457200"/>
            <a:ext cx="5181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cc">
                      <a:alpha val="80000"/>
                    </a:srgbClr>
                  </a:outerShdw>
                </a:effectLst>
                <a:latin typeface="Times New Roman"/>
              </a:rPr>
              <a:t>21st Century Skill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ffffcc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 Content Curriculum Skill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stery of Core Subjec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aware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nancial, economic, business and entrepreneurial 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vic 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 Learning and Innovation Skil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ivity and Innovation Skil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itical Thinking and Problem Solving Skil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unication and Collaboration Skil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 Information Media and Technology Skill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 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CT (Information, Communications &amp; Technology) 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. Life and Career Skil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exibility &amp; Adaptabilit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itiative &amp; Self-Dir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cial &amp; Cross-Cultural Skill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ductivity &amp; Accounta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adership &amp; Responsi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eativity and Innovat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ly existing knowledge to generate new ideas, products, or proces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e original works as a means of personal or group expres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 models and simulations to explore complex systems and issu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y trends and forecast possibil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 Communication and Collaborat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act, collaborate, and publish with peers, experts, or others employing a variety of digital environments and med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e information and ideas effectively to multiple audiences using a variety of media and forma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 cultural understanding and global awareness by engaging with learners of other cultu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ibute to project teams to produce original works or solve probl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 Research and Information Fl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 strategies to guide inqui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cate, organize, analyze, evaluate, synthesize, and ethically use information from a variety of sources and med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aluate and select information sources and digital tools based on the appropriateness to specific task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data and report resul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76720" y="54288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cc">
                      <a:alpha val="80000"/>
                    </a:srgbClr>
                  </a:outerShdw>
                </a:effectLst>
                <a:latin typeface="Times New Roman"/>
              </a:rPr>
              <a:t>NET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ffffcc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8920" y="7761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udents ‘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. Critical Thinking, Problem Solving, and Decision Mak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y and define authentic problems and significant questions for investig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 and manage activities to develop a solution or complete a proje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lect and analyze data to identify solutions and/or make informed decis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 multiple processes and diverse perspectives to explore alternative solu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 Digital Citizenshi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vocate and practice safe, legal, and responsible use of information and technolo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hibit a positive attitude toward using technology that supports collaborators to be a digital citizen learning, and productivi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personal responsibility for lifelong learn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hibit leadership for digital citizenshi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. Technology Operations and Concep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 and use technology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ect and use applications effectively and productive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oubleshoot systems and applic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fer current knowledge to learning of new technolog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00400" y="61920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cc">
                      <a:alpha val="80000"/>
                    </a:srgbClr>
                  </a:outerShdw>
                </a:effectLst>
                <a:latin typeface="Times New Roman"/>
              </a:rPr>
              <a:t>NET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ffffcc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2600" y="85248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udents ‘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9:54:13Z</dcterms:created>
  <dc:creator>Administrator</dc:creator>
  <dc:description/>
  <dc:language>en-US</dc:language>
  <cp:lastModifiedBy>Administrator</cp:lastModifiedBy>
  <dcterms:modified xsi:type="dcterms:W3CDTF">2008-07-29T01:12:03Z</dcterms:modified>
  <cp:revision>6</cp:revision>
  <dc:subject/>
  <dc:title>Slide 1</dc:title>
</cp:coreProperties>
</file>